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39625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E64E716-88D0-4C2E-A618-4EFB3EE5D7F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859840" y="8836200"/>
            <a:ext cx="1274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0771BFA-0722-4BF7-A510-BC1F43E137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184040" y="701280"/>
            <a:ext cx="462276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1C35F17-D4BE-4804-B423-851754D7213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A940F0C-934D-474D-85CD-B68DBE448D5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D4A16C0-7531-4485-B1D0-58903763C1A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D6CCE42-E537-4245-9C0B-F8471E2BEB5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F272EC5-B3D9-40D3-A59D-4147B4FA545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2063748-4389-44A9-B1AE-38E8520BEDE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441347A-AC19-40D8-8DC6-639E1D6A545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B9916FB-785C-4E40-B88A-9EB51D99E14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5D47402-A8D7-4895-A42C-5F363DFCF5B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7633EB1-6536-44E9-AC48-9BE85AD78C4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3A8BD71-AA15-4658-9985-2F65EBAC86A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5624F55-B3BC-4EE2-8693-D3F87E8334C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2412284-15CB-4388-9664-B3B147D7C9E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F0F4ADF-0BA6-4FB6-BDCE-BFD27FC9487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65AB8EC-963A-44BE-8862-484FE74F59D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74D71CB-549A-4A47-A76E-474BC2C4D31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2FEAB2E-5803-4147-85D2-CB8F857F44E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B7AF83B-89C1-47D6-9777-34CEC358BAF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05A7BEB-8B43-4E53-B7EB-984A0EF053B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0AC437F-1DCC-4096-AA86-97B0EE3AB82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4579D1B-28E5-495D-9562-9871CC5CCAC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BAD6B16-348D-4DBE-9508-1F42DDC697E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5847411-40CC-4A0E-A8ED-5C824CE7B1F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5809EB6-A15D-4249-B148-98A547B7263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3120" y="440532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FEF0A3E-D5D1-46AB-80E8-9AECADC4239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974960" y="606600"/>
            <a:ext cx="2825640" cy="2118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7F7AC08-9EC6-414D-9A13-61430A7466E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91FB2E8-D794-4C4F-B3F2-0AF7A2E3A92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583920" y="2835000"/>
            <a:ext cx="5838840" cy="590220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12600" rIns="12600" tIns="12600" bIns="1260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Img"/>
          </p:nvPr>
        </p:nvSpPr>
        <p:spPr>
          <a:xfrm>
            <a:off x="1974960" y="606600"/>
            <a:ext cx="2825640" cy="2118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1DC5928-8383-49FA-9078-50F2968EC43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43AE281-5966-40C6-8A2F-EC7C0467FAB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8D5FAF8-7C9D-4387-A947-0F531EEE50F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5"/>
          <p:cNvSpPr/>
          <p:nvPr/>
        </p:nvSpPr>
        <p:spPr>
          <a:xfrm>
            <a:off x="3962520" y="881388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8452E75-A742-436C-9601-285AABB279C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984320" y="612720"/>
            <a:ext cx="2806920" cy="21049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69880" y="2823840"/>
            <a:ext cx="5865840" cy="59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E7D27D4C-AAF4-429B-A34B-56352794417D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D4F8FCC9-1191-4138-BDF0-34EF81EB7E6B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1200" y="93960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2401"/>
              </a:spcBef>
              <a:spcAft>
                <a:spcPts val="225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lanning Overview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nd Size Measuremen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1576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ascal LOC Versus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652320" y="134604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34604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1576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xt Pages Versus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652320" y="130176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30176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4"/>
          <p:cNvSpPr/>
          <p:nvPr/>
        </p:nvSpPr>
        <p:spPr>
          <a:xfrm>
            <a:off x="3867120" y="5905440"/>
            <a:ext cx="13906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 Pages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ript LOC Versus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652320" y="148752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8752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1576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port LOC Versus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652320" y="136692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36692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reen LOC Versus Tim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652320" y="139860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39860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lationship to Development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 is a reasonably good measure for development of source programs such as Pascal and C++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s are an acceptable measure for document develop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 is not an adequate measure for screens, reports, or scrip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other possible measures are function points, screens, and modul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Oval 2"/>
          <p:cNvSpPr/>
          <p:nvPr/>
        </p:nvSpPr>
        <p:spPr>
          <a:xfrm>
            <a:off x="1733400" y="2001960"/>
            <a:ext cx="1622520" cy="15922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recision and Accuracy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1685880" y="4714920"/>
            <a:ext cx="1623960" cy="1590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5762520" y="1995480"/>
            <a:ext cx="1640160" cy="16066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5746680" y="4707000"/>
            <a:ext cx="1656000" cy="16063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828000" y="1582560"/>
            <a:ext cx="2949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ecise and inaccurate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5111280" y="1582560"/>
            <a:ext cx="269460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ise and inaccurate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834840" y="4332240"/>
            <a:ext cx="274500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ecise and accurate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5112000" y="4332240"/>
            <a:ext cx="24904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cise and accurate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1152360" y="194616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1876320" y="189864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1152360" y="273528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1763640" y="234936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1876320" y="283068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2373480" y="204300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830160" y="230040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7" name="Rectangle 18"/>
          <p:cNvSpPr/>
          <p:nvPr/>
        </p:nvSpPr>
        <p:spPr>
          <a:xfrm>
            <a:off x="5262480" y="2268360"/>
            <a:ext cx="460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5470200" y="2043000"/>
            <a:ext cx="5882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  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39" name="Rectangle 20"/>
          <p:cNvSpPr/>
          <p:nvPr/>
        </p:nvSpPr>
        <p:spPr>
          <a:xfrm>
            <a:off x="5423040" y="247824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0" name="Rectangle 21"/>
          <p:cNvSpPr/>
          <p:nvPr/>
        </p:nvSpPr>
        <p:spPr>
          <a:xfrm>
            <a:off x="5632560" y="225252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1" name="Rectangle 22"/>
          <p:cNvSpPr/>
          <p:nvPr/>
        </p:nvSpPr>
        <p:spPr>
          <a:xfrm>
            <a:off x="5326200" y="197964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2" name="Rectangle 23"/>
          <p:cNvSpPr/>
          <p:nvPr/>
        </p:nvSpPr>
        <p:spPr>
          <a:xfrm>
            <a:off x="1635120" y="461484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3" name="Rectangle 24"/>
          <p:cNvSpPr/>
          <p:nvPr/>
        </p:nvSpPr>
        <p:spPr>
          <a:xfrm>
            <a:off x="1957320" y="565956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4" name="Rectangle 25"/>
          <p:cNvSpPr/>
          <p:nvPr/>
        </p:nvSpPr>
        <p:spPr>
          <a:xfrm>
            <a:off x="3114720" y="464832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5" name="Rectangle 26"/>
          <p:cNvSpPr/>
          <p:nvPr/>
        </p:nvSpPr>
        <p:spPr>
          <a:xfrm>
            <a:off x="2503440" y="506556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130560" y="590076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7" name="Rectangle 28"/>
          <p:cNvSpPr/>
          <p:nvPr/>
        </p:nvSpPr>
        <p:spPr>
          <a:xfrm>
            <a:off x="1587600" y="578808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8" name="Rectangle 29"/>
          <p:cNvSpPr/>
          <p:nvPr/>
        </p:nvSpPr>
        <p:spPr>
          <a:xfrm>
            <a:off x="3306600" y="533880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49" name="Rectangle 30"/>
          <p:cNvSpPr/>
          <p:nvPr/>
        </p:nvSpPr>
        <p:spPr>
          <a:xfrm>
            <a:off x="6370200" y="5273640"/>
            <a:ext cx="5882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  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0" name="Rectangle 31"/>
          <p:cNvSpPr/>
          <p:nvPr/>
        </p:nvSpPr>
        <p:spPr>
          <a:xfrm>
            <a:off x="6274440" y="5065560"/>
            <a:ext cx="71640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    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1" name="Rectangle 32"/>
          <p:cNvSpPr/>
          <p:nvPr/>
        </p:nvSpPr>
        <p:spPr>
          <a:xfrm>
            <a:off x="6240960" y="5419800"/>
            <a:ext cx="71640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    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52" name="Rectangle 33"/>
          <p:cNvSpPr/>
          <p:nvPr/>
        </p:nvSpPr>
        <p:spPr>
          <a:xfrm>
            <a:off x="6435720" y="5580000"/>
            <a:ext cx="3337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asurement Precis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65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two people measure the same thing, will they get the same resul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do so requires a precise measurement defini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measure must also be properly appl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cal LOC do not equate to assembler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LOC do not equate to modified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al LOC do not equate to physical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++ LOC may not relate to C++ 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achine Countab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measurement is time-consuming and inaccur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d counters can work only on definable program characteristic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ers can be complex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definition sel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ing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uitable for Early Planning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060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issue is, what can you visualize earl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 house, square feet predict cos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w people can visualize a house in terms of square feet of living spa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bers of rooms are more intui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uitive size measures are needed for good pla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uitable for Early Planning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fortunately, the popular intuitive measure is not measurable, and the popular measurable measure is not intui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poi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ui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directly measur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intui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ly measur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electing a Size Measur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with product development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s require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characteris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special development cond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k products by resources requir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what characteristics distinguish those products that took the greatest effort from those that took the leas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electing a Size Measur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if these differences are measurab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relate this measure for the product se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re is no correlation, try agai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may be no single best measu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mbination of measures could be need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s for handling multiple measures are discussed lat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electing a Size Measure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are better at estimating resources than program size, size estimation will not improve your plann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estimate resources directly, you m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accurate record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ild a large data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n estimating gu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16120" y="446040"/>
            <a:ext cx="775152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SEI Measurement Framework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EI measure uses logical (versus physical) lines of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ement specif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cut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nexecut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ed statement typ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guage and code ty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igin and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nting Program Size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cal li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ariant to editing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relate with development eff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quely defin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to cou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li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y to coun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invari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uniquely definabl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unting Program Size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060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uses a coding standard and a physical LOC count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d coding standar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line for each logical 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standard must be faithfully follow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, physical line counting equals logical line count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83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 Counting Exampl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dure ISet.Set(var N: int; var inc: boolean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 := false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Ptr := SetStart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le (SearchPtr&lt;&gt;nil) and (inc == false) d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SearchPtr^.ThisN == 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 := tr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Ptr:=SearchPtr^.NextN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 Counting Standar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 all statements.  This inclu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gin, end, if, then, else,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{, }, ;, .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larations, directives, header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not count blanks, comment lines, automatically generated code, or reused cod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 new and changed code for measuring and estimating development productivi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ine of Code Accounting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small programs, size tracking can be done manually, but it requires ca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larger programs, size tracking requires an accounting sys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 accounting provides an orderly and precise way to track LOC changes through multiple program vers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16120" y="687240"/>
            <a:ext cx="75484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cture Topic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3040" y="175248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ing over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siz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measure siz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measurement crite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EI size measurement frame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ing program siz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nt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ing standa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1576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ample of LOC Accounting -1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070080" y="1487520"/>
            <a:ext cx="2975040" cy="1003320"/>
          </a:xfrm>
          <a:prstGeom prst="rect">
            <a:avLst/>
          </a:prstGeom>
          <a:solidFill>
            <a:srgbClr val="3399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sion 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0 LOC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062160" y="3216240"/>
            <a:ext cx="3000600" cy="927000"/>
          </a:xfrm>
          <a:prstGeom prst="rect">
            <a:avLst/>
          </a:prstGeom>
          <a:solidFill>
            <a:srgbClr val="3399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hance to version 1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125 new and 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ed LOC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376280" y="4726080"/>
            <a:ext cx="2816280" cy="718920"/>
          </a:xfrm>
          <a:prstGeom prst="rect">
            <a:avLst/>
          </a:prstGeom>
          <a:solidFill>
            <a:srgbClr val="3399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cted siz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0+125=475 LOC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3285000" y="5776920"/>
            <a:ext cx="29642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700" spc="-1" strike="noStrike">
                <a:solidFill>
                  <a:srgbClr val="ccccff"/>
                </a:solidFill>
                <a:latin typeface="Arial"/>
              </a:rPr>
              <a:t>What happened?</a:t>
            </a:r>
            <a:endParaRPr b="1" lang="en-US" sz="27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5105520" y="4726080"/>
            <a:ext cx="2816280" cy="718920"/>
          </a:xfrm>
          <a:prstGeom prst="rect">
            <a:avLst/>
          </a:prstGeom>
          <a:solidFill>
            <a:srgbClr val="3399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d size 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50 LOC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5" name="Line 8"/>
          <p:cNvSpPr/>
          <p:nvPr/>
        </p:nvSpPr>
        <p:spPr>
          <a:xfrm>
            <a:off x="4497480" y="2511360"/>
            <a:ext cx="0" cy="68112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6" name="Line 9"/>
          <p:cNvSpPr/>
          <p:nvPr/>
        </p:nvSpPr>
        <p:spPr>
          <a:xfrm flipH="1">
            <a:off x="2673000" y="4183200"/>
            <a:ext cx="1824120" cy="52380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4487760" y="4183200"/>
            <a:ext cx="1838520" cy="50940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Example of LOC Accounting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81120" y="1511280"/>
            <a:ext cx="755964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1190520"/>
                <a:tab algn="l" pos="2381400"/>
                <a:tab algn="l" pos="3571920"/>
                <a:tab algn="l" pos="4762440"/>
                <a:tab algn="l" pos="5952960"/>
                <a:tab algn="l" pos="7143840"/>
                <a:tab algn="l" pos="8334360"/>
                <a:tab algn="l" pos="9524880"/>
                <a:tab algn="l" pos="1071576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473120" y="1549440"/>
          <a:ext cx="6235920" cy="4470480"/>
        </p:xfrm>
        <a:graphic>
          <a:graphicData uri="http://schemas.openxmlformats.org/drawingml/2006/table">
            <a:tbl>
              <a:tblPr/>
              <a:tblGrid>
                <a:gridCol w="1663920"/>
                <a:gridCol w="1523880"/>
                <a:gridCol w="1511280"/>
                <a:gridCol w="1536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tract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 V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et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i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V0 LOC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et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ifi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ed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l Product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New and Changed LOC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20800" y="1536840"/>
            <a:ext cx="77356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effectively plan and manage your work, you must measure product siz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uses LOC as the size measu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other measures, size must correlate with development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ry size measure should be precisely defined and automatically countab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y Make Plans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204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 you to make commitments that you can me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a basis for agreeing on the j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uide your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p to track your prog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ure project completion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1576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roject Planning Framework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769680" y="5587920"/>
            <a:ext cx="862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7630560" y="5530680"/>
            <a:ext cx="9302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port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41560" y="1347840"/>
            <a:ext cx="1566720" cy="58716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efin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48040" y="2206800"/>
            <a:ext cx="1568160" cy="72864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duc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onceptual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2058840" y="3213000"/>
            <a:ext cx="1557360" cy="48744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055960" y="3970440"/>
            <a:ext cx="1549080" cy="57456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stimat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050920" y="4813200"/>
            <a:ext cx="1565280" cy="49068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duc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2048040" y="5581800"/>
            <a:ext cx="1568160" cy="58104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evelop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4038480" y="5446800"/>
            <a:ext cx="1400400" cy="71604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ize, resource,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6051600" y="5499000"/>
            <a:ext cx="1154160" cy="663840"/>
          </a:xfrm>
          <a:prstGeom prst="rect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4" name="Oval 13"/>
          <p:cNvSpPr/>
          <p:nvPr/>
        </p:nvSpPr>
        <p:spPr>
          <a:xfrm>
            <a:off x="4016520" y="4697280"/>
            <a:ext cx="1331640" cy="636840"/>
          </a:xfrm>
          <a:prstGeom prst="ellipse">
            <a:avLst/>
          </a:prstGeom>
          <a:noFill/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vailabl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5" name="Oval 14"/>
          <p:cNvSpPr/>
          <p:nvPr/>
        </p:nvSpPr>
        <p:spPr>
          <a:xfrm>
            <a:off x="4024440" y="3008160"/>
            <a:ext cx="1315800" cy="730440"/>
          </a:xfrm>
          <a:prstGeom prst="ellipse">
            <a:avLst/>
          </a:prstGeom>
          <a:noFill/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iz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6" name="Line 15"/>
          <p:cNvSpPr/>
          <p:nvPr/>
        </p:nvSpPr>
        <p:spPr>
          <a:xfrm>
            <a:off x="1684440" y="1658880"/>
            <a:ext cx="33156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7" name="Line 16"/>
          <p:cNvSpPr/>
          <p:nvPr/>
        </p:nvSpPr>
        <p:spPr>
          <a:xfrm>
            <a:off x="2874960" y="2017800"/>
            <a:ext cx="0" cy="16200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3637080" y="5811840"/>
            <a:ext cx="38556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5456160" y="5811840"/>
            <a:ext cx="57960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0" name="Line 19"/>
          <p:cNvSpPr/>
          <p:nvPr/>
        </p:nvSpPr>
        <p:spPr>
          <a:xfrm flipV="1">
            <a:off x="6632640" y="3425760"/>
            <a:ext cx="0" cy="205416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Line 20"/>
          <p:cNvSpPr/>
          <p:nvPr/>
        </p:nvSpPr>
        <p:spPr>
          <a:xfrm flipH="1">
            <a:off x="5378040" y="3413160"/>
            <a:ext cx="125244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5378040" y="4260960"/>
            <a:ext cx="125244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3" name="Line 22"/>
          <p:cNvSpPr/>
          <p:nvPr/>
        </p:nvSpPr>
        <p:spPr>
          <a:xfrm flipH="1">
            <a:off x="3639960" y="3392640"/>
            <a:ext cx="38592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3639960" y="5008680"/>
            <a:ext cx="36864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5" name="Line 24"/>
          <p:cNvSpPr/>
          <p:nvPr/>
        </p:nvSpPr>
        <p:spPr>
          <a:xfrm>
            <a:off x="2874960" y="3021120"/>
            <a:ext cx="0" cy="16488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874960" y="3798720"/>
            <a:ext cx="0" cy="14472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2874960" y="4630680"/>
            <a:ext cx="0" cy="16200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8" name="Line 27"/>
          <p:cNvSpPr/>
          <p:nvPr/>
        </p:nvSpPr>
        <p:spPr>
          <a:xfrm>
            <a:off x="2874960" y="5349960"/>
            <a:ext cx="0" cy="20484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9" name="Line 28"/>
          <p:cNvSpPr/>
          <p:nvPr/>
        </p:nvSpPr>
        <p:spPr>
          <a:xfrm flipH="1">
            <a:off x="1612440" y="5832360"/>
            <a:ext cx="42084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0" name="Line 29"/>
          <p:cNvSpPr/>
          <p:nvPr/>
        </p:nvSpPr>
        <p:spPr>
          <a:xfrm>
            <a:off x="5378400" y="5003640"/>
            <a:ext cx="1246320" cy="0"/>
          </a:xfrm>
          <a:prstGeom prst="line">
            <a:avLst/>
          </a:prstGeom>
          <a:ln w="12600">
            <a:solidFill>
              <a:srgbClr val="cccc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1" name="Line 30"/>
          <p:cNvSpPr/>
          <p:nvPr/>
        </p:nvSpPr>
        <p:spPr>
          <a:xfrm>
            <a:off x="7232760" y="5811840"/>
            <a:ext cx="45396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2" name="Line 31"/>
          <p:cNvSpPr/>
          <p:nvPr/>
        </p:nvSpPr>
        <p:spPr>
          <a:xfrm flipH="1">
            <a:off x="3625920" y="4257720"/>
            <a:ext cx="35568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93" name="Oval 32"/>
          <p:cNvSpPr/>
          <p:nvPr/>
        </p:nvSpPr>
        <p:spPr>
          <a:xfrm>
            <a:off x="3989520" y="3867120"/>
            <a:ext cx="1384200" cy="733320"/>
          </a:xfrm>
          <a:prstGeom prst="ellipse">
            <a:avLst/>
          </a:prstGeom>
          <a:noFill/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ductivity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46320"/>
                <a:tab algn="l" pos="2492280"/>
                <a:tab algn="l" pos="3738600"/>
                <a:tab algn="l" pos="4984920"/>
                <a:tab algn="l" pos="6230880"/>
                <a:tab algn="l" pos="7477200"/>
                <a:tab algn="l" pos="8723160"/>
                <a:tab algn="l" pos="99694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1" lang="en-US" sz="15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y Measure Size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p you to make better p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ist you in tracking develop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ize other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ment resour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ect r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Measurement Criteri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measurements must b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ed to development effo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 count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itable for early 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ize Versus Development Effor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139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incipal requirement:  If the size measure is not directly related to development cost, it is not worth us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many possible measur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es of code (LO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poi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s, screens, scripts, repor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ize measure should be sensitive to language, design, and development practi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++ LOC </a:t>
            </a: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Versus </a:t>
            </a: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Development Time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639720" y="141300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141300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9-08-30T14:13:49Z</cp:lastPrinted>
  <dcterms:modified xsi:type="dcterms:W3CDTF">2018-09-06T00:16:34Z</dcterms:modified>
  <cp:revision>69</cp:revision>
  <dc:subject/>
  <dc:title>No Slide Title</dc:title>
</cp:coreProperties>
</file>